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E4DC0-C902-41C4-80EF-F180E0904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1871C-F42C-4347-9836-0CF93B554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93DFD-E4A3-4873-8455-733D77C56B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2F45-D009-4E4A-8676-4280F80B8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D4EA9-C019-4BBA-BE26-DB3EF3D3A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5534-6902-4116-ABB0-5FCD1080D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8834-E12E-4E38-A643-5BF9E2A0F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B7EE6-28F7-4C4E-8494-1032A6EB3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7AFD2-33AE-41EA-8EF6-A5A94DFC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C8D3-A93D-429E-92DB-B82D18B5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872E7-5739-468D-A834-299D41C66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EDB0-3B16-44EB-8CA8-92DB8326C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E96E7-A1AD-436E-B3E5-6A6F943D05F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838080" y="1066680"/>
            <a:ext cx="556272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Chapter 5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 </a:t>
            </a:r>
            <a:br>
              <a:rPr sz="5400"/>
            </a:b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ection 4: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Complex Number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INTRO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617220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Not all quadratics have real-number solutions.  For instance, x</a:t>
            </a:r>
            <a:r>
              <a:rPr b="1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 = -1 has no real-number solutions because the square of any real number x is never negativ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0" y="5181480"/>
            <a:ext cx="6858000" cy="149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To overcome this problem, mathematicians created an expanded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ystem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4"/>
          <p:cNvSpPr/>
          <p:nvPr/>
        </p:nvSpPr>
        <p:spPr>
          <a:xfrm>
            <a:off x="533520" y="6705720"/>
            <a:ext cx="6324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The imaginary unit i, defined a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i =√-1.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Note i</a:t>
            </a:r>
            <a:r>
              <a:rPr b="0" lang="en-US" sz="30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3000" spc="-1" strike="noStrike">
                <a:solidFill>
                  <a:srgbClr val="000000"/>
                </a:solidFill>
                <a:latin typeface="Tahoma"/>
              </a:rPr>
              <a:t> = -1</a:t>
            </a: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THE SQUARE ROOT OF A NEGATIVE NUMBER</a:t>
            </a: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ectangle 2"/>
          <p:cNvSpPr/>
          <p:nvPr/>
        </p:nvSpPr>
        <p:spPr>
          <a:xfrm>
            <a:off x="380880" y="1981080"/>
            <a:ext cx="3429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entury Gothic"/>
              </a:rPr>
              <a:t>If r is a positive real number the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3"/>
          <p:cNvSpPr/>
          <p:nvPr/>
        </p:nvSpPr>
        <p:spPr>
          <a:xfrm>
            <a:off x="304920" y="4343400"/>
            <a:ext cx="342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entury Gothic"/>
              </a:rPr>
              <a:t>Therefore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Object 3"/>
              <p:cNvSpPr txBox="1"/>
              <p:nvPr/>
            </p:nvSpPr>
            <p:spPr>
              <a:xfrm>
                <a:off x="3200400" y="2057400"/>
                <a:ext cx="3352680" cy="112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</m:e>
                    </m:rad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5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Object 4"/>
              <p:cNvSpPr txBox="1"/>
              <p:nvPr/>
            </p:nvSpPr>
            <p:spPr>
              <a:xfrm>
                <a:off x="1371600" y="3005280"/>
                <a:ext cx="281952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−</m:t>
                        </m:r>
                        <m:r>
                          <m:t xml:space="preserve">r</m:t>
                        </m:r>
                        <m:r>
                          <m:t xml:space="preserve">=</m:t>
                        </m:r>
                      </m:e>
                    </m:rad>
                    <m:r>
                      <m:t xml:space="preserve">i</m:t>
                    </m:r>
                    <m:rad>
                      <m:radPr>
                        <m:degHide m:val="1"/>
                      </m:radPr>
                      <m:deg/>
                      <m:e>
                        <m:r>
                          <m:t xml:space="preserve">r</m:t>
                        </m:r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Object 5"/>
              <p:cNvSpPr txBox="1"/>
              <p:nvPr/>
            </p:nvSpPr>
            <p:spPr>
              <a:xfrm>
                <a:off x="217440" y="4792680"/>
                <a:ext cx="3299040" cy="106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r>
                                  <m:t xml:space="preserve">−</m:t>
                                </m:r>
                                <m:r>
                                  <m:t xml:space="preserve">r</m:t>
                                </m:r>
                              </m:e>
                            </m:rad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2" name="Object 6"/>
              <p:cNvSpPr txBox="1"/>
              <p:nvPr/>
            </p:nvSpPr>
            <p:spPr>
              <a:xfrm>
                <a:off x="1905120" y="6019920"/>
                <a:ext cx="4378320" cy="178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−</m:t>
                                    </m:r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i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ad>
                                  <m:radPr>
                                    <m:degHide m:val="1"/>
                                  </m:radPr>
                                  <m:deg/>
                                  <m:e>
                                    <m:r>
                                      <m:t xml:space="preserve">5</m:t>
                                    </m:r>
                                  </m:e>
                                </m:ra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  <m:e>
                        <m:r>
                          <m:t xml:space="preserve">−</m:t>
                        </m:r>
                        <m:r>
                          <m:t xml:space="preserve">1</m:t>
                        </m:r>
                        <m:r>
                          <m:t xml:space="preserve">∗</m:t>
                        </m:r>
                        <m:r>
                          <m:t xml:space="preserve">5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5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2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omic Sans MS"/>
              </a:rPr>
              <a:t>SOLVING A QUADRATIC EQUAT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-1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3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10 = -26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 + 11 = -37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Box 3"/>
          <p:cNvSpPr/>
          <p:nvPr/>
        </p:nvSpPr>
        <p:spPr>
          <a:xfrm>
            <a:off x="1617120" y="762120"/>
            <a:ext cx="354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Arial"/>
              </a:rPr>
              <a:t>Complex Number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533520" y="685800"/>
            <a:ext cx="5867280" cy="7162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/>
          <p:cNvSpPr/>
          <p:nvPr/>
        </p:nvSpPr>
        <p:spPr>
          <a:xfrm>
            <a:off x="3505320" y="4876920"/>
            <a:ext cx="2895480" cy="2971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6"/>
          <p:cNvSpPr/>
          <p:nvPr/>
        </p:nvSpPr>
        <p:spPr>
          <a:xfrm>
            <a:off x="533520" y="685800"/>
            <a:ext cx="2971800" cy="716292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7"/>
          <p:cNvSpPr/>
          <p:nvPr/>
        </p:nvSpPr>
        <p:spPr>
          <a:xfrm>
            <a:off x="545040" y="1523880"/>
            <a:ext cx="1720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a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8"/>
          <p:cNvSpPr/>
          <p:nvPr/>
        </p:nvSpPr>
        <p:spPr>
          <a:xfrm>
            <a:off x="4049640" y="1371600"/>
            <a:ext cx="186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9"/>
          <p:cNvSpPr/>
          <p:nvPr/>
        </p:nvSpPr>
        <p:spPr>
          <a:xfrm>
            <a:off x="4049640" y="4876920"/>
            <a:ext cx="18601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magina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0"/>
          <p:cNvSpPr/>
          <p:nvPr/>
        </p:nvSpPr>
        <p:spPr>
          <a:xfrm>
            <a:off x="693000" y="3429000"/>
            <a:ext cx="12794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1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√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6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1"/>
          <p:cNvSpPr/>
          <p:nvPr/>
        </p:nvSpPr>
        <p:spPr>
          <a:xfrm>
            <a:off x="3738600" y="3429000"/>
            <a:ext cx="944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1+5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12"/>
          <p:cNvSpPr/>
          <p:nvPr/>
        </p:nvSpPr>
        <p:spPr>
          <a:xfrm>
            <a:off x="4881600" y="4038480"/>
            <a:ext cx="7506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3-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13"/>
          <p:cNvSpPr/>
          <p:nvPr/>
        </p:nvSpPr>
        <p:spPr>
          <a:xfrm>
            <a:off x="5339520" y="3124080"/>
            <a:ext cx="8604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2-7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4"/>
          <p:cNvSpPr/>
          <p:nvPr/>
        </p:nvSpPr>
        <p:spPr>
          <a:xfrm>
            <a:off x="4038480" y="220968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+bi, b≠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5"/>
          <p:cNvSpPr/>
          <p:nvPr/>
        </p:nvSpPr>
        <p:spPr>
          <a:xfrm>
            <a:off x="4038480" y="6095880"/>
            <a:ext cx="1981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+bi, b≠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6"/>
          <p:cNvSpPr/>
          <p:nvPr/>
        </p:nvSpPr>
        <p:spPr>
          <a:xfrm>
            <a:off x="3661560" y="6705720"/>
            <a:ext cx="5662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-2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7"/>
          <p:cNvSpPr/>
          <p:nvPr/>
        </p:nvSpPr>
        <p:spPr>
          <a:xfrm>
            <a:off x="4956480" y="6705720"/>
            <a:ext cx="456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i="1" lang="en-US" sz="26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3000"/>
                            </p:stCondLst>
                            <p:childTnLst>
                              <p:par>
                                <p:cTn id="6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55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A complex number written in standard form is a number 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a + b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i</a:t>
            </a:r>
            <a:r>
              <a:rPr b="1" lang="en-US" sz="4000" spc="-1" strike="noStrike">
                <a:solidFill>
                  <a:srgbClr val="000000"/>
                </a:solidFill>
                <a:latin typeface="Century Gothic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where a and b are real numbers.  The number 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is the real part of the complex number, and the number 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bi</a:t>
            </a:r>
            <a:r>
              <a:rPr b="0" lang="en-US" sz="4000" spc="-1" strike="noStrike">
                <a:solidFill>
                  <a:srgbClr val="000000"/>
                </a:solidFill>
                <a:latin typeface="Century Gothic"/>
              </a:rPr>
              <a:t> is the imaginary part.  </a:t>
            </a:r>
            <a:r>
              <a:rPr b="1" i="1" lang="en-US" sz="4000" spc="-1" strike="noStrike">
                <a:solidFill>
                  <a:srgbClr val="000000"/>
                </a:solidFill>
                <a:latin typeface="Century Gothic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66480"/>
            <a:ext cx="68580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Comic Sans MS"/>
              </a:rPr>
              <a:t>ADDING AND SUBTRACTING  COMPLEX NUMBER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0" y="1981080"/>
            <a:ext cx="68580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omic Sans MS"/>
              </a:rPr>
              <a:t>Write your answer in standard form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0" y="2819520"/>
            <a:ext cx="6858000" cy="50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(4 – 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 + (3 + 2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7+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(7 – 5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 – (1 + 5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51444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6-10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  <a:ea typeface="Arial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6 – (-2 + 9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 + (-5 + 4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3-5</a:t>
            </a:r>
            <a:r>
              <a:rPr b="0" i="1" lang="nn-NO" sz="3200" spc="-1" strike="noStrike">
                <a:solidFill>
                  <a:srgbClr val="000000"/>
                </a:solidFill>
                <a:latin typeface="Comic Sans MS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20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7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omic Sans MS"/>
              </a:rPr>
              <a:t>MULTIPLYING COMPLEX NUMBE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Rectangle 3"/>
          <p:cNvSpPr/>
          <p:nvPr/>
        </p:nvSpPr>
        <p:spPr>
          <a:xfrm>
            <a:off x="0" y="18288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(4 – i)(3 + 2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0" y="4114800"/>
            <a:ext cx="2819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(7 – 5i)(1 – 5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5"/>
          <p:cNvSpPr/>
          <p:nvPr/>
        </p:nvSpPr>
        <p:spPr>
          <a:xfrm>
            <a:off x="0" y="63244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200" spc="-1" strike="noStrike">
                <a:solidFill>
                  <a:srgbClr val="000000"/>
                </a:solidFill>
                <a:latin typeface="Comic Sans MS"/>
              </a:rPr>
              <a:t>3 (-2 + 9i)(-8 + 4i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6"/>
          <p:cNvSpPr/>
          <p:nvPr/>
        </p:nvSpPr>
        <p:spPr>
          <a:xfrm>
            <a:off x="-454680" y="2438280"/>
            <a:ext cx="31874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+8i-3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-2i</a:t>
            </a:r>
            <a:r>
              <a:rPr b="0" lang="nn-NO" sz="3000" spc="-1" strike="noStrike" baseline="30000">
                <a:solidFill>
                  <a:srgbClr val="00b0f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7"/>
          <p:cNvSpPr/>
          <p:nvPr/>
        </p:nvSpPr>
        <p:spPr>
          <a:xfrm>
            <a:off x="-482400" y="3200400"/>
            <a:ext cx="309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5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-2(-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8"/>
          <p:cNvSpPr/>
          <p:nvPr/>
        </p:nvSpPr>
        <p:spPr>
          <a:xfrm>
            <a:off x="3733920" y="3200400"/>
            <a:ext cx="15364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12+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5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+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=14+5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9"/>
          <p:cNvSpPr/>
          <p:nvPr/>
        </p:nvSpPr>
        <p:spPr>
          <a:xfrm>
            <a:off x="41400" y="4876920"/>
            <a:ext cx="3405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35i-5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+25i</a:t>
            </a:r>
            <a:r>
              <a:rPr b="0" lang="nn-NO" sz="3000" spc="-1" strike="noStrike" baseline="30000">
                <a:solidFill>
                  <a:srgbClr val="00b0f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13680" y="5638680"/>
            <a:ext cx="3309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40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+25(-1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1"/>
          <p:cNvSpPr/>
          <p:nvPr/>
        </p:nvSpPr>
        <p:spPr>
          <a:xfrm>
            <a:off x="3454920" y="5105520"/>
            <a:ext cx="26452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40i</a:t>
            </a:r>
            <a:r>
              <a:rPr b="0" lang="nn-NO" sz="3000" spc="-1" strike="noStrike">
                <a:solidFill>
                  <a:srgbClr val="0070c0"/>
                </a:solidFill>
                <a:latin typeface="Comic Sans MS"/>
              </a:rPr>
              <a:t>-2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=-18-40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2"/>
          <p:cNvSpPr/>
          <p:nvPr/>
        </p:nvSpPr>
        <p:spPr>
          <a:xfrm>
            <a:off x="71640" y="6934320"/>
            <a:ext cx="38307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(-6+27i</a:t>
            </a:r>
            <a:r>
              <a:rPr b="0" lang="nn-NO" sz="2800" spc="-1" strike="noStrike">
                <a:solidFill>
                  <a:srgbClr val="000000"/>
                </a:solidFill>
                <a:latin typeface="Comic Sans MS"/>
              </a:rPr>
              <a:t> )(-8 + 4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13"/>
          <p:cNvSpPr/>
          <p:nvPr/>
        </p:nvSpPr>
        <p:spPr>
          <a:xfrm>
            <a:off x="12240" y="7620120"/>
            <a:ext cx="4277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48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24i-216i</a:t>
            </a:r>
            <a:r>
              <a:rPr b="0" lang="nn-NO" sz="3000" spc="-1" strike="noStrike">
                <a:solidFill>
                  <a:srgbClr val="00b0f0"/>
                </a:solidFill>
                <a:latin typeface="Comic Sans MS"/>
              </a:rPr>
              <a:t>+108i</a:t>
            </a:r>
            <a:r>
              <a:rPr b="0" lang="nn-NO" sz="3000" spc="-1" strike="noStrike" baseline="30000">
                <a:solidFill>
                  <a:srgbClr val="00b0f0"/>
                </a:solidFill>
                <a:latin typeface="Comic Sans MS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4"/>
          <p:cNvSpPr/>
          <p:nvPr/>
        </p:nvSpPr>
        <p:spPr>
          <a:xfrm>
            <a:off x="3753720" y="7315200"/>
            <a:ext cx="329904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48</a:t>
            </a:r>
            <a:r>
              <a:rPr b="0" lang="nn-NO" sz="3000" spc="-1" strike="noStrike">
                <a:solidFill>
                  <a:srgbClr val="ff0000"/>
                </a:solidFill>
                <a:latin typeface="Comic Sans MS"/>
              </a:rPr>
              <a:t>-240i</a:t>
            </a:r>
            <a:r>
              <a:rPr b="0" lang="nn-NO" sz="3000" spc="-1" strike="noStrike">
                <a:solidFill>
                  <a:srgbClr val="0070c0"/>
                </a:solidFill>
                <a:latin typeface="Comic Sans MS"/>
              </a:rPr>
              <a:t>-10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n-NO" sz="3000" spc="-1" strike="noStrike">
                <a:solidFill>
                  <a:srgbClr val="000000"/>
                </a:solidFill>
                <a:latin typeface="Comic Sans MS"/>
              </a:rPr>
              <a:t>=-60-240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8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2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1000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36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0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2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66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0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74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2T21:31:41Z</dcterms:created>
  <dc:creator>sraja</dc:creator>
  <dc:description/>
  <dc:language>en-US</dc:language>
  <cp:lastModifiedBy>sraja</cp:lastModifiedBy>
  <dcterms:modified xsi:type="dcterms:W3CDTF">2010-12-06T17:50:14Z</dcterms:modified>
  <cp:revision>19</cp:revision>
  <dc:subject/>
  <dc:title>VOCABULARY</dc:title>
</cp:coreProperties>
</file>